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0058400" cy="7772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89920" cy="80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92948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520" y="4406760"/>
            <a:ext cx="92948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89920" cy="80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535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3320" y="1142640"/>
            <a:ext cx="4535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520" y="4406760"/>
            <a:ext cx="4535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3320" y="4406760"/>
            <a:ext cx="4535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89920" cy="80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99268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23320" y="1142640"/>
            <a:ext cx="299268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65760" y="1142640"/>
            <a:ext cx="299268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520" y="4406760"/>
            <a:ext cx="299268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23320" y="4406760"/>
            <a:ext cx="299268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65760" y="4406760"/>
            <a:ext cx="299268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719F-E110-4056-A8CB-D7C76A1C6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89920" cy="80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9294840" cy="6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53E1-84EF-4FDB-9EE2-A230F03F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89920" cy="80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92948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6C69-2A6E-480E-8FC3-24D82288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89920" cy="80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535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3320" y="1142640"/>
            <a:ext cx="4535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A6E8-D465-498E-BAF7-FDC0CCA6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89920" cy="80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6619-507F-48EE-9AD5-C4E04DDB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3520" y="258840"/>
            <a:ext cx="8989920" cy="37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71D9-C132-4FE0-A4D9-F12089B0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89920" cy="80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535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3320" y="1142640"/>
            <a:ext cx="4535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520" y="4406760"/>
            <a:ext cx="4535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82EB-F88D-4A6B-9462-A4D7E80D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89920" cy="80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9294840" cy="6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89920" cy="80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535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3320" y="1142640"/>
            <a:ext cx="4535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43320" y="4406760"/>
            <a:ext cx="4535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9A57-72F8-4EB5-B703-9846F0BF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89920" cy="80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535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43320" y="1142640"/>
            <a:ext cx="4535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520" y="4406760"/>
            <a:ext cx="92948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8E81-A658-470E-852F-EB7F2E60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89920" cy="80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92948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0520" y="4406760"/>
            <a:ext cx="92948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ED3B-2E59-4ED8-958A-D7C4D291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89920" cy="80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535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43320" y="1142640"/>
            <a:ext cx="4535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80520" y="4406760"/>
            <a:ext cx="4535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43320" y="4406760"/>
            <a:ext cx="4535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C9A6-F86C-443E-87CD-310D0D958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89920" cy="80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99268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23320" y="1142640"/>
            <a:ext cx="299268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65760" y="1142640"/>
            <a:ext cx="299268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80520" y="4406760"/>
            <a:ext cx="299268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23320" y="4406760"/>
            <a:ext cx="299268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65760" y="4406760"/>
            <a:ext cx="299268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2C3D-A500-4D0D-866D-7CC768038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89920" cy="80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92948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89920" cy="80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535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3320" y="1142640"/>
            <a:ext cx="4535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89920" cy="80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520" y="258840"/>
            <a:ext cx="8989920" cy="37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89920" cy="80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535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3320" y="1142640"/>
            <a:ext cx="4535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520" y="4406760"/>
            <a:ext cx="4535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89920" cy="80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535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3320" y="1142640"/>
            <a:ext cx="4535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3320" y="4406760"/>
            <a:ext cx="4535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89920" cy="80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535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3320" y="1142640"/>
            <a:ext cx="4535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520" y="4406760"/>
            <a:ext cx="92948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89920" cy="80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92948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6200" indent="-37620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-31464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25092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8960" indent="-25092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62240" indent="-25092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62240" indent="-25092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62240" indent="-25092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066680"/>
            <a:ext cx="929664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00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6632640"/>
            <a:ext cx="10064880" cy="11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0" y="6570720"/>
            <a:ext cx="10066320" cy="1219320"/>
            <a:chOff x="0" y="6570720"/>
            <a:chExt cx="10066320" cy="1219320"/>
          </a:xfrm>
        </p:grpSpPr>
        <p:sp>
          <p:nvSpPr>
            <p:cNvPr id="41" name=""/>
            <p:cNvSpPr/>
            <p:nvPr/>
          </p:nvSpPr>
          <p:spPr>
            <a:xfrm>
              <a:off x="0" y="6570720"/>
              <a:ext cx="1009800" cy="1219320"/>
            </a:xfr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55640" y="6570720"/>
              <a:ext cx="1009800" cy="1219320"/>
            </a:xfr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33600" y="6570720"/>
              <a:ext cx="1008000" cy="1219320"/>
            </a:xfr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309760" y="6570720"/>
              <a:ext cx="1009800" cy="1219320"/>
            </a:xfr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087720" y="6570720"/>
              <a:ext cx="1008000" cy="1219320"/>
            </a:xfr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63880" y="6570720"/>
              <a:ext cx="1009800" cy="1219320"/>
            </a:xfr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21320" y="6570720"/>
              <a:ext cx="1008000" cy="1219320"/>
            </a:xfr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96040" y="6570720"/>
              <a:ext cx="1011240" cy="1219320"/>
            </a:xfr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194520" y="6570720"/>
              <a:ext cx="1011240" cy="1219320"/>
            </a:xfr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991200" y="6570720"/>
              <a:ext cx="1011240" cy="1219320"/>
            </a:xfr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810560" y="6570720"/>
              <a:ext cx="1011240" cy="1219320"/>
            </a:xfr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609040" y="6570720"/>
              <a:ext cx="1009800" cy="1219320"/>
            </a:xfr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434520" y="6881760"/>
              <a:ext cx="631800" cy="908280"/>
            </a:xfr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3129120"/>
            <a:ext cx="900000" cy="1641240"/>
          </a:xfrm>
          <a:gradFill rotWithShape="0">
            <a:gsLst>
              <a:gs pos="0">
                <a:srgbClr val="9900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4200" y="2590920"/>
            <a:ext cx="8548560" cy="1293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3760" cy="515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500" spc="-1" strike="noStrike">
                <a:solidFill>
                  <a:srgbClr val="ffffff"/>
                </a:solidFill>
                <a:latin typeface="Arial"/>
                <a:ea typeface="Luxi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Luxi Sans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3120" cy="515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500" spc="-1" strike="noStrike">
                <a:solidFill>
                  <a:srgbClr val="ffffff"/>
                </a:solidFill>
                <a:latin typeface="Arial"/>
                <a:ea typeface="Luxi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Luxi Sans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3760" cy="515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500" spc="-1" strike="noStrike">
                <a:solidFill>
                  <a:srgbClr val="ffffff"/>
                </a:solidFill>
                <a:latin typeface="Arial"/>
                <a:ea typeface="Luxi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5EBF74-3294-4DA6-A287-ABA935BF3662}" type="slidenum">
              <a:rPr b="0" lang="en-GB" sz="1500" spc="-1" strike="noStrike">
                <a:solidFill>
                  <a:srgbClr val="ffffff"/>
                </a:solidFill>
                <a:latin typeface="Arial"/>
                <a:ea typeface="Luxi San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503280" y="1819080"/>
            <a:ext cx="905040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-31464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25092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8960" indent="-25092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62240" indent="-25092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62240" indent="-25092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62240" indent="-25092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4200" y="2590920"/>
            <a:ext cx="855000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4840"/>
                <a:tab algn="l" pos="2211480"/>
                <a:tab algn="l" pos="3317760"/>
                <a:tab algn="l" pos="4424400"/>
                <a:tab algn="l" pos="5530680"/>
                <a:tab algn="l" pos="6637320"/>
                <a:tab algn="l" pos="7743960"/>
                <a:tab algn="l" pos="8850240"/>
                <a:tab algn="l" pos="995688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oin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258840"/>
            <a:ext cx="94485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4840"/>
                <a:tab algn="l" pos="2211480"/>
                <a:tab algn="l" pos="3317760"/>
                <a:tab algn="l" pos="4424400"/>
                <a:tab algn="l" pos="5530680"/>
                <a:tab algn="l" pos="6637320"/>
                <a:tab algn="l" pos="7743960"/>
                <a:tab algn="l" pos="8850240"/>
                <a:tab algn="l" pos="995688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ointer Arithmetic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4572000" cy="2590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int a[ 10 ], *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p = &amp;a[2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*p = 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*(p+1) = 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printf("%d", *(p+3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29200" y="2382480"/>
            <a:ext cx="4572000" cy="31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int a[ 10 ], *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a[2] = 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a[3] = 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printf("%d", a[5]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76240" y="6400800"/>
            <a:ext cx="8153640" cy="609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6400800"/>
            <a:ext cx="144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6400800"/>
            <a:ext cx="144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76520" y="6400800"/>
            <a:ext cx="144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52680" y="6400800"/>
            <a:ext cx="180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91120" y="6400800"/>
            <a:ext cx="144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4680" y="6400800"/>
            <a:ext cx="144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29400" y="6400800"/>
            <a:ext cx="144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467480" y="6400800"/>
            <a:ext cx="180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229600" y="6400800"/>
            <a:ext cx="144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8000" y="6440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95680" y="64404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a[0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95960" y="64404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a[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34760" y="64404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a[2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72840" y="64404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a[3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81120" y="64404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a[4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18480" y="64404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a[5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57280" y="64404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a[6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95720" y="64404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a[7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87640" y="64404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a[8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249760" y="64404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a[9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00720" y="5257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52640" y="5715000"/>
            <a:ext cx="1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58880" y="525456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p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5688000"/>
            <a:ext cx="14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04160" y="524016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p+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8480" y="5673600"/>
            <a:ext cx="14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5800" y="5257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p+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280120" y="5691240"/>
            <a:ext cx="14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41000" y="5257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p+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14960" y="5691240"/>
            <a:ext cx="1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78360" y="5257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p+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53400" y="5691240"/>
            <a:ext cx="14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17160" y="524016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p+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791480" y="5673600"/>
            <a:ext cx="14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79280" y="525456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p+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553600" y="5688000"/>
            <a:ext cx="14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9080" y="1295280"/>
            <a:ext cx="9388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a pointer variable points to an array element, there is a notion of adding or subtracting an integer to/from the pointer.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4840"/>
                <a:tab algn="l" pos="2211480"/>
                <a:tab algn="l" pos="3317760"/>
                <a:tab algn="l" pos="4424400"/>
                <a:tab algn="l" pos="5530680"/>
                <a:tab algn="l" pos="6637320"/>
                <a:tab algn="l" pos="7743960"/>
                <a:tab algn="l" pos="8850240"/>
                <a:tab algn="l" pos="995688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ointer Arithmetic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9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int a[10], *p, *q;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p = &amp;a[2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q = p + 3;           /* q points to a[5] now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p = q – 1;           /*  p points to a[4] now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p++; 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         /*  p points to a[5] now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p--;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                    /* p points to a[4] now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*p = 123;            /*  a[4] = 123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*q = *p;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         /*   a[5] = a[4]  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q = p;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         /*   q points to a[4] now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scanf("%d", q)    /* scanf("%d", &amp;a[4]) 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4840"/>
                <a:tab algn="l" pos="2211480"/>
                <a:tab algn="l" pos="3317760"/>
                <a:tab algn="l" pos="4424400"/>
                <a:tab algn="l" pos="5530680"/>
                <a:tab algn="l" pos="6637320"/>
                <a:tab algn="l" pos="7743960"/>
                <a:tab algn="l" pos="8850240"/>
                <a:tab algn="l" pos="995688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ointer Arithmetic 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9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6200" indent="-376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wo pointers point to elements of a same array, then there are notions of subtraction and comparisons between the two poin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int a[10], *p, *q , i;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p = &amp;a[2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q = &amp;a[5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i = q - p;        /* i is 3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i = p - q;        /* i is -3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a[2] = a[5] =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i = *p - *q;     /* i = a[2] – a[5] 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p &lt; q;            /* true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p == q;          /* false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p != q;           /* true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4840"/>
                <a:tab algn="l" pos="2211480"/>
                <a:tab algn="l" pos="3317760"/>
                <a:tab algn="l" pos="4424400"/>
                <a:tab algn="l" pos="5530680"/>
                <a:tab algn="l" pos="6637320"/>
                <a:tab algn="l" pos="7743960"/>
                <a:tab algn="l" pos="8850240"/>
                <a:tab algn="l" pos="995688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Pointers and Array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915400" cy="6083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all that the value of an array name is also an add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fact, pointers and array names can be used interchangeably in many (but not all)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-31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 int n, *p;    p=&amp;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-31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=1;  *p = 1;  p[0] = 1;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ajor difference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-31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ray names come with valid spaces where they “point” to.  And you cannot “point” the names to other pl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-31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inters do not point to valid space when they are created.  You have to point them to some valid space (initializ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258840"/>
            <a:ext cx="952488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4840"/>
                <a:tab algn="l" pos="2211480"/>
                <a:tab algn="l" pos="3317760"/>
                <a:tab algn="l" pos="4424400"/>
                <a:tab algn="l" pos="5530680"/>
                <a:tab algn="l" pos="6637320"/>
                <a:tab algn="l" pos="7743960"/>
                <a:tab algn="l" pos="8850240"/>
                <a:tab algn="l" pos="995688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Using Pointers to Access Array El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76240" y="6400800"/>
            <a:ext cx="8153640" cy="609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91320" y="6400800"/>
            <a:ext cx="144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14600" y="6400800"/>
            <a:ext cx="144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76520" y="6400800"/>
            <a:ext cx="144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6400800"/>
            <a:ext cx="180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91120" y="6400800"/>
            <a:ext cx="144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54680" y="6400800"/>
            <a:ext cx="144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629400" y="6400800"/>
            <a:ext cx="144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467480" y="6400800"/>
            <a:ext cx="180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229600" y="6400800"/>
            <a:ext cx="144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8000" y="6440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95680" y="64404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a[0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95960" y="64404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a[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34760" y="64404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a[2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72840" y="64404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a[3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81120" y="64404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a[4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118480" y="64404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a[5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957280" y="64404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a[6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95720" y="64404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a[7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487640" y="64404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a[8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9760" y="64404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a[9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24320" y="5257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76600" y="5715000"/>
            <a:ext cx="14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91000" y="58672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p[0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29440" y="58672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p[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92280" y="58672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p[2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30360" y="58672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p[3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822640" y="58672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p[4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660000" y="58672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p[5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498800" y="58672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p[6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68920" y="58672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p[7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1981080"/>
            <a:ext cx="4572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marL="376200" indent="-376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int a[ 10 ], *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p = &amp;a[2]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p[0] = 10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p[1] = 10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printf(“%d”, p[3]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05520" y="1981080"/>
            <a:ext cx="4572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marL="376200" indent="-376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int a[ 10 ], *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a[2] = 10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a[3] = 10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printf(“%d”, a[5]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9080" y="1295280"/>
            <a:ext cx="938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pointer can be used just like an arr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4840"/>
                <a:tab algn="l" pos="2211480"/>
                <a:tab algn="l" pos="3317760"/>
                <a:tab algn="l" pos="4424400"/>
                <a:tab algn="l" pos="5530680"/>
                <a:tab algn="l" pos="6637320"/>
                <a:tab algn="l" pos="7743960"/>
                <a:tab algn="l" pos="8850240"/>
                <a:tab algn="l" pos="99568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 Array Name is Like a Constant Poi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9296280" cy="6249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6200" indent="-376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ray name is like a constant pointer which points to the first element of the arr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int a[10], *p, *q;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p = a;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      /* p = &amp;a[0]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q = a + 3;        /* q = &amp;a[0] + 3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a ++;               /*  illegal !!!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fore, you can “pass an array” to a function.  Actually, the address of the first element is pas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int a[ ] = { 5, 7, 8 , 2, 3 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sum( a, 5 );  /* Equal to sum(&amp;a[0],5) 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………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4840"/>
                <a:tab algn="l" pos="2211480"/>
                <a:tab algn="l" pos="3317760"/>
                <a:tab algn="l" pos="4424400"/>
                <a:tab algn="l" pos="5530680"/>
                <a:tab algn="l" pos="6637320"/>
                <a:tab algn="l" pos="7743960"/>
                <a:tab algn="l" pos="8850240"/>
                <a:tab algn="l" pos="995688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n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5257800" cy="6276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/* Sum – sum up the ints in the given array 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int sum(int *ary, int siz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int i, 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for(i = 0, s=0; i&lt;size;i++)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s+=ary[i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return 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1143000"/>
            <a:ext cx="434340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/* In another function *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int a[1000],x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x= sum(&amp;a[100],5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/* This sums up a[100], a[101], …, a[149] *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10080" y="1371600"/>
            <a:ext cx="1800" cy="6019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4840"/>
                <a:tab algn="l" pos="2211480"/>
                <a:tab algn="l" pos="3317760"/>
                <a:tab algn="l" pos="4424400"/>
                <a:tab algn="l" pos="5530680"/>
                <a:tab algn="l" pos="6637320"/>
                <a:tab algn="l" pos="7743960"/>
                <a:tab algn="l" pos="8850240"/>
                <a:tab algn="l" pos="995688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llocating Memory for a Pointer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72000" cy="6249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following program is wro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#include &lt;stdio.h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int main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int *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scanf("%d",p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return 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105520" y="1142640"/>
            <a:ext cx="4572000" cy="6249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one is corre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#include &lt;stdio.h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int main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int *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int 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p = &amp;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scanf("%d",p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return 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4840"/>
                <a:tab algn="l" pos="2211480"/>
                <a:tab algn="l" pos="3317760"/>
                <a:tab algn="l" pos="4424400"/>
                <a:tab algn="l" pos="5530680"/>
                <a:tab algn="l" pos="6637320"/>
                <a:tab algn="l" pos="7743960"/>
                <a:tab algn="l" pos="8850240"/>
                <a:tab algn="l" pos="995688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llocating Memory for a Pointer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9525240" cy="6249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re is another way to allocate memory so the pointer can point to something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Arial"/>
              </a:rPr>
              <a:t>#include &lt;stdio.h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Arial"/>
              </a:rPr>
              <a:t>#include &lt;stdlib.h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Arial"/>
              </a:rPr>
              <a:t>int main(){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9900cc"/>
                </a:solidFill>
                <a:latin typeface="Arial"/>
              </a:rPr>
              <a:t>int *p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9900cc"/>
                </a:solidFill>
                <a:latin typeface="Arial"/>
              </a:rPr>
              <a:t>p = (int *) malloc( sizeof(int) );   /* Allocate 4 bytes *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9900cc"/>
                </a:solidFill>
                <a:latin typeface="Arial"/>
              </a:rPr>
              <a:t>scanf("%d", p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9900cc"/>
                </a:solidFill>
                <a:latin typeface="Arial"/>
              </a:rPr>
              <a:t>printf("%d", *p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9900cc"/>
                </a:solidFill>
                <a:latin typeface="Arial"/>
              </a:rPr>
              <a:t>free(p);</a:t>
            </a:r>
            <a:r>
              <a:rPr b="0" lang="en-GB" sz="26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9900cc"/>
                </a:solidFill>
                <a:latin typeface="Arial"/>
              </a:rPr>
              <a:t>/* This returns the memory to the system.*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9900cc"/>
                </a:solidFill>
                <a:latin typeface="Arial"/>
              </a:rPr>
              <a:t>/* Important !!! *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4840"/>
                <a:tab algn="l" pos="2211480"/>
                <a:tab algn="l" pos="3317760"/>
                <a:tab algn="l" pos="4424400"/>
                <a:tab algn="l" pos="5530680"/>
                <a:tab algn="l" pos="6637320"/>
                <a:tab algn="l" pos="7743960"/>
                <a:tab algn="l" pos="8850240"/>
                <a:tab algn="l" pos="995688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llocating Memory for a Pointer 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9296640" cy="6477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6200" indent="-376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s of 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malloc(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free(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re defined in stdlib.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void * malloc(size_t number_of_byte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void free(void * p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can use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 mallo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dynamically allocate and release the memor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int *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p = (int *) malloc(1000 * sizeof(int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for(i=0; i&lt;1000; i++)</a:t>
            </a:r>
            <a:br>
              <a:rPr sz="2800"/>
            </a:b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  p[i] = 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p[1000]=3;   /* Wrong!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free(p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p[0]=5;   /* Wrong!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4840"/>
                <a:tab algn="l" pos="2211480"/>
                <a:tab algn="l" pos="3317760"/>
                <a:tab algn="l" pos="4424400"/>
                <a:tab algn="l" pos="5530680"/>
                <a:tab algn="l" pos="6637320"/>
                <a:tab algn="l" pos="7743960"/>
                <a:tab algn="l" pos="8850240"/>
                <a:tab algn="l" pos="995688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ointer Fundament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6324840" cy="6249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6200" indent="-376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a variable is defined the compiler (linker/loader actually) allocates a real memory address for the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-31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int x;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will allocate 4 bytes in the main memory, which will be used to store an integer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a value is assigned to a variable, the value is actually placed to the memory that was alloc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-31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x=3;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will store integer 3 in the 4 bytes of mem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24680" y="1143000"/>
            <a:ext cx="1447920" cy="6248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924680" y="1676520"/>
            <a:ext cx="1447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924680" y="2209680"/>
            <a:ext cx="1447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4680" y="2666880"/>
            <a:ext cx="1447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24680" y="3200400"/>
            <a:ext cx="1447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924680" y="3733920"/>
            <a:ext cx="1447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924680" y="4267080"/>
            <a:ext cx="1447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924680" y="4876920"/>
            <a:ext cx="1447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924680" y="5410080"/>
            <a:ext cx="1447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924680" y="5943600"/>
            <a:ext cx="1447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924680" y="6400800"/>
            <a:ext cx="1447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15200" y="2209680"/>
            <a:ext cx="609480" cy="2057400"/>
          </a:xfrm>
          <a:custGeom>
            <a:avLst/>
            <a:gdLst>
              <a:gd name="textAreaLeft" fmla="*/ 389520 w 609480"/>
              <a:gd name="textAreaRight" fmla="*/ 609840 w 6094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956720" y="220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03880" y="22096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9900cc"/>
                </a:solidFill>
                <a:latin typeface="Arial"/>
              </a:rPr>
              <a:t>00000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03880" y="27432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9900cc"/>
                </a:solidFill>
                <a:latin typeface="Arial"/>
              </a:rPr>
              <a:t>00000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03880" y="32767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9900cc"/>
                </a:solidFill>
                <a:latin typeface="Arial"/>
              </a:rPr>
              <a:t>00000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02440" y="3733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9900cc"/>
                </a:solidFill>
                <a:latin typeface="Arial"/>
              </a:rPr>
              <a:t>000000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78600" y="29718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24680" y="6934320"/>
            <a:ext cx="1447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533520" y="337320"/>
            <a:ext cx="899136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04840"/>
                <a:tab algn="l" pos="2211480"/>
                <a:tab algn="l" pos="3317760"/>
                <a:tab algn="l" pos="4424400"/>
                <a:tab algn="l" pos="5530680"/>
                <a:tab algn="l" pos="6637320"/>
                <a:tab algn="l" pos="7743960"/>
                <a:tab algn="l" pos="8850240"/>
                <a:tab algn="l" pos="995688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n Example – Finding Prime Numb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1371600"/>
            <a:ext cx="479124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#include &lt;stdio.h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#include &lt;stdlib.h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/* Print out all prim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numbers which are les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than m *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void print_prime( int m 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int i,j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int * ary = (int *) malloc( m * sizeof(int)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if (ary==NULL) exit -1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for(i=0;i&lt;m;i++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    </a:t>
            </a: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ary[i]=1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/* Assume all integers between 0 and m-1 are prime *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ary[0]=ary[1]=0;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/* Note that in fact 0 and 1 are not prime *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43600" y="1371600"/>
            <a:ext cx="36482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for(i=3;i&lt;m;i++)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    </a:t>
            </a: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for( j=2; j&lt;i; j++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      </a:t>
            </a: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if(ary[ i ] &amp;&amp; i%j==0)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ary[i]=0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break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      </a:t>
            </a: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for(i=0;i&lt;m;i++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    </a:t>
            </a: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if(ary[i]) printf("%d ", i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free( ary 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printf("\n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int main()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int m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printf("m = 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scanf("%d", &amp;m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printf("\n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print_prime(m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return 0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86400" y="1371600"/>
            <a:ext cx="1440" cy="5943600"/>
          </a:xfrm>
          <a:prstGeom prst="line">
            <a:avLst/>
          </a:prstGeom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143000"/>
            <a:ext cx="8686800" cy="1440"/>
          </a:xfrm>
          <a:prstGeom prst="line">
            <a:avLst/>
          </a:prstGeom>
          <a:ln w="54720">
            <a:solidFill>
              <a:srgbClr val="94006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4840"/>
                <a:tab algn="l" pos="2211480"/>
                <a:tab algn="l" pos="3317760"/>
                <a:tab algn="l" pos="4424400"/>
                <a:tab algn="l" pos="5530680"/>
                <a:tab algn="l" pos="6637320"/>
                <a:tab algn="l" pos="7743960"/>
                <a:tab algn="l" pos="8850240"/>
                <a:tab algn="l" pos="995688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oin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5867640" cy="6249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6200" indent="-376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en the value of a variable is used, the contents in the memory are us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-31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Arial"/>
              </a:rPr>
              <a:t>y=x;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  will read the contents in the 4 bytes of memory, and then assign it to variable </a:t>
            </a:r>
            <a:r>
              <a:rPr b="0" lang="en-GB" sz="2600" spc="-1" strike="noStrike">
                <a:solidFill>
                  <a:srgbClr val="9900cc"/>
                </a:solidFill>
                <a:latin typeface="Arial"/>
              </a:rPr>
              <a:t>y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Arial"/>
              </a:rPr>
              <a:t>&amp;x</a:t>
            </a:r>
            <a:r>
              <a:rPr b="0" lang="en-GB" sz="2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n get the address of </a:t>
            </a:r>
            <a:r>
              <a:rPr b="0" lang="en-GB" sz="2600" spc="-1" strike="noStrike">
                <a:solidFill>
                  <a:srgbClr val="9900cc"/>
                </a:solidFill>
                <a:latin typeface="Arial"/>
              </a:rPr>
              <a:t>x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. (referencing operator </a:t>
            </a:r>
            <a:r>
              <a:rPr b="0" lang="en-GB" sz="2600" spc="-1" strike="noStrike">
                <a:solidFill>
                  <a:srgbClr val="9900cc"/>
                </a:solidFill>
                <a:latin typeface="Arial"/>
              </a:rPr>
              <a:t>&amp;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address can be passed to a func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-31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Arial"/>
              </a:rPr>
              <a:t>scanf("%d", &amp;x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address can also be stored in a variable …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829640" y="685800"/>
            <a:ext cx="1447560" cy="6248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29640" y="1219320"/>
            <a:ext cx="1447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829640" y="1752480"/>
            <a:ext cx="1447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829640" y="2209680"/>
            <a:ext cx="1447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829640" y="2743200"/>
            <a:ext cx="1447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29640" y="3276720"/>
            <a:ext cx="1447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829640" y="3809880"/>
            <a:ext cx="1447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829640" y="4419720"/>
            <a:ext cx="1447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29640" y="4952880"/>
            <a:ext cx="1447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829640" y="5486400"/>
            <a:ext cx="1447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829640" y="5943600"/>
            <a:ext cx="1447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219800" y="1752480"/>
            <a:ext cx="609840" cy="2057400"/>
          </a:xfrm>
          <a:custGeom>
            <a:avLst/>
            <a:gdLst>
              <a:gd name="textAreaLeft" fmla="*/ 389520 w 609840"/>
              <a:gd name="textAreaRight" fmla="*/ 610200 w 6098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61320" y="175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08840" y="17524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9900cc"/>
                </a:solidFill>
                <a:latin typeface="Arial"/>
              </a:rPr>
              <a:t>00000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8840" y="22860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9900cc"/>
                </a:solidFill>
                <a:latin typeface="Arial"/>
              </a:rPr>
              <a:t>00000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908840" y="28195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9900cc"/>
                </a:solidFill>
                <a:latin typeface="Arial"/>
              </a:rPr>
              <a:t>00000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907040" y="32767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9900cc"/>
                </a:solidFill>
                <a:latin typeface="Arial"/>
              </a:rPr>
              <a:t>000000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83560" y="2514600"/>
            <a:ext cx="33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829640" y="6477120"/>
            <a:ext cx="1447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219800" y="4876920"/>
            <a:ext cx="609840" cy="2057400"/>
          </a:xfrm>
          <a:custGeom>
            <a:avLst/>
            <a:gdLst>
              <a:gd name="textAreaLeft" fmla="*/ 389520 w 609840"/>
              <a:gd name="textAreaRight" fmla="*/ 610200 w 6098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83560" y="5638680"/>
            <a:ext cx="33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4840"/>
                <a:tab algn="l" pos="2211480"/>
                <a:tab algn="l" pos="3317760"/>
                <a:tab algn="l" pos="4424400"/>
                <a:tab algn="l" pos="5530680"/>
                <a:tab algn="l" pos="6637320"/>
                <a:tab algn="l" pos="7743960"/>
                <a:tab algn="l" pos="8850240"/>
                <a:tab algn="l" pos="995688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oin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9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6200" indent="-376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declare a pointer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type * pointerna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-314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int * p1;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p1 is a variable that tends to point to an integer, (or p1 is a int poin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-314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char *p2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-314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unsigned int * p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p1 = &amp;x;     /* Store the address in p1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scanf("%d", p1);  /* i.e. scanf("%d",&amp;x);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p2 = &amp;x;    /* Will get warning message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30481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4840"/>
                <a:tab algn="l" pos="2211480"/>
                <a:tab algn="l" pos="3317760"/>
                <a:tab algn="l" pos="4424400"/>
                <a:tab algn="l" pos="5530680"/>
                <a:tab algn="l" pos="6637320"/>
                <a:tab algn="l" pos="7743960"/>
                <a:tab algn="l" pos="8850240"/>
                <a:tab algn="l" pos="995688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Initializing Poin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9296640" cy="6276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ke other variables, always initialize pointers before using them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int main()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int x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int *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scanf("%d",p);   /*                                          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p = &amp;x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scanf("%d",p);  /* Correct 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3962520"/>
            <a:ext cx="4267080" cy="1371600"/>
          </a:xfrm>
          <a:prstGeom prst="irregularSeal2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Don’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4840"/>
                <a:tab algn="l" pos="2211480"/>
                <a:tab algn="l" pos="3317760"/>
                <a:tab algn="l" pos="4424400"/>
                <a:tab algn="l" pos="5530680"/>
                <a:tab algn="l" pos="6637320"/>
                <a:tab algn="l" pos="7743960"/>
                <a:tab algn="l" pos="8850240"/>
                <a:tab algn="l" pos="995688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Using Poin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9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can use pointers to access the values of other variables,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.e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he contents of the memory for other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do this, use the 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perator (dereferencing operato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-31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ending on different context,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has different mean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int n, m=3, *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p=&amp;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n=*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printf("%d\n", n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printf("%d\n",*p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4840"/>
                <a:tab algn="l" pos="2211480"/>
                <a:tab algn="l" pos="3317760"/>
                <a:tab algn="l" pos="4424400"/>
                <a:tab algn="l" pos="5530680"/>
                <a:tab algn="l" pos="6637320"/>
                <a:tab algn="l" pos="7743960"/>
                <a:tab algn="l" pos="8850240"/>
                <a:tab algn="l" pos="995688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n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9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816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int m=3, n=100, *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p=&amp;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printf("m is %d\n",*p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m++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printf("now m is %d\n",*p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p=&amp;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printf("n is %d\n",*p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*p=500;    /* *p is at the left of "="  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printf("now n is %d\n", 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4840"/>
                <a:tab algn="l" pos="2211480"/>
                <a:tab algn="l" pos="3317760"/>
                <a:tab algn="l" pos="4424400"/>
                <a:tab algn="l" pos="5530680"/>
                <a:tab algn="l" pos="6637320"/>
                <a:tab algn="l" pos="7743960"/>
                <a:tab algn="l" pos="8850240"/>
                <a:tab algn="l" pos="995688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ointers as Function Parame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677520" cy="6249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531720" indent="-531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258920"/>
                <a:tab algn="l" pos="2365200"/>
                <a:tab algn="l" pos="3471840"/>
                <a:tab algn="l" pos="4578480"/>
                <a:tab algn="l" pos="5684760"/>
                <a:tab algn="l" pos="6791400"/>
                <a:tab algn="l" pos="7897680"/>
                <a:tab algn="l" pos="9004320"/>
                <a:tab algn="l" pos="1011096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times, you want a function to assign a value to a variabl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868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258920"/>
                <a:tab algn="l" pos="2365200"/>
                <a:tab algn="l" pos="3471840"/>
                <a:tab algn="l" pos="4578480"/>
                <a:tab algn="l" pos="5684760"/>
                <a:tab algn="l" pos="6791400"/>
                <a:tab algn="l" pos="7897680"/>
                <a:tab algn="l" pos="9004320"/>
                <a:tab algn="l" pos="1011096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scanf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258920"/>
                <a:tab algn="l" pos="2365200"/>
                <a:tab algn="l" pos="3471840"/>
                <a:tab algn="l" pos="4578480"/>
                <a:tab algn="l" pos="5684760"/>
                <a:tab algn="l" pos="6791400"/>
                <a:tab algn="l" pos="7897680"/>
                <a:tab algn="l" pos="9004320"/>
                <a:tab algn="l" pos="1011096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you want a function that computes the minimum AND maximum numbers in 2 inte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258920"/>
                <a:tab algn="l" pos="2365200"/>
                <a:tab algn="l" pos="3471840"/>
                <a:tab algn="l" pos="4578480"/>
                <a:tab algn="l" pos="5684760"/>
                <a:tab algn="l" pos="6791400"/>
                <a:tab algn="l" pos="7897680"/>
                <a:tab algn="l" pos="9004320"/>
                <a:tab algn="l" pos="1011096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 1, use two global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868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258920"/>
                <a:tab algn="l" pos="2365200"/>
                <a:tab algn="l" pos="3471840"/>
                <a:tab algn="l" pos="4578480"/>
                <a:tab algn="l" pos="5684760"/>
                <a:tab algn="l" pos="6791400"/>
                <a:tab algn="l" pos="7897680"/>
                <a:tab algn="l" pos="9004320"/>
                <a:tab algn="l" pos="1011096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he function, assign the minimum and maximum numbers to the two global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868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258920"/>
                <a:tab algn="l" pos="2365200"/>
                <a:tab algn="l" pos="3471840"/>
                <a:tab algn="l" pos="4578480"/>
                <a:tab algn="l" pos="5684760"/>
                <a:tab algn="l" pos="6791400"/>
                <a:tab algn="l" pos="7897680"/>
                <a:tab algn="l" pos="9004320"/>
                <a:tab algn="l" pos="1011096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the function returns, the calling function can read the minimum and maximum numbers from the two global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258920"/>
                <a:tab algn="l" pos="2365200"/>
                <a:tab algn="l" pos="3471840"/>
                <a:tab algn="l" pos="4578480"/>
                <a:tab algn="l" pos="5684760"/>
                <a:tab algn="l" pos="6791400"/>
                <a:tab algn="l" pos="7897680"/>
                <a:tab algn="l" pos="9004320"/>
                <a:tab algn="l" pos="1011096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is bad because the function is not reus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4840"/>
                <a:tab algn="l" pos="2211480"/>
                <a:tab algn="l" pos="3317760"/>
                <a:tab algn="l" pos="4424400"/>
                <a:tab algn="l" pos="5530680"/>
                <a:tab algn="l" pos="6637320"/>
                <a:tab algn="l" pos="7743960"/>
                <a:tab algn="l" pos="8850240"/>
                <a:tab algn="l" pos="995688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ointers as Function Parame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72000" cy="6249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6200" indent="-376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ead, we use the following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void min_max(int a, int b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int *min, int *max)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if(a&gt;b)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*max=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*min=b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else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*max=b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*min=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05520" y="1142640"/>
            <a:ext cx="4952880" cy="6445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6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int main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int x,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int small,bi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printf("Two integers: 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scanf("%d %d", &amp;x, &amp;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min_max(x,y,&amp;small,&amp;big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printf("%d &lt;= %d", small, big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return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943520" y="1371600"/>
            <a:ext cx="1440" cy="6019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tchabaw</dc:creator>
  <dc:description/>
  <dc:language>en-US</dc:language>
  <cp:lastModifiedBy>Bin Ma</cp:lastModifiedBy>
  <cp:revision>0</cp:revision>
  <dc:subject/>
  <dc:title>CS211 Slides</dc:title>
</cp:coreProperties>
</file>